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5AB-E952-4CF4-8112-98C4A32E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98C-D4A2-483F-9359-EB73536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3AE-37D3-4DDE-AA7F-2DE7C2C0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876-A5A1-4C79-9F08-8980194A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880-14C7-49A1-A021-AEBE056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59E-C8F8-4A16-A6F2-D2A49CE2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16A-2327-49EC-A014-3F9EEEA1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54D-C183-429F-A0FB-9ABF5A21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2A5A-B537-4E60-B0B7-6D39215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571-FC08-4E81-A66A-B21C453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58B-94C2-4B34-AD0E-5B3C1B21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384C-AB80-4CA9-8095-2EED118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45E-0F24-4B84-8D52-D8AA0B3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A1C3-B507-4F4B-AF25-D36776E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5DC-C2F0-4A2D-83A5-D136EC7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F0F-2A2E-43A5-A80E-619B25EF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1DBA-9801-4CCE-9F59-72224E25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0A57-42C9-4F86-9B91-F7D9C835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085F-2379-48BA-8163-A2A2F7EC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E24B-5D8D-4EBA-9D8C-A74302F3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9A8-DC11-4A5D-920E-3E49AD8A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2354-CB43-418E-9A1A-ACD5A1D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306D-67F1-468B-81F2-43A8A2C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D5B7-0008-469F-BA88-E6DF9A0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FEEA-61A3-476E-AF96-425E033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C1A5-64F2-498C-810E-3583735B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1235-CC34-496E-B633-7903CF79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5046-D71B-4B75-98E1-3BD6741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54DA-D5B4-4FD4-A7C4-95DC662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1373-6005-4E09-9757-5818ECC3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0E99-3C13-4E11-B002-7CC56410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A9F-7982-424F-87E4-B5378A92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536E-2FA8-43D1-8194-6BE23241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C975-6C37-49F5-9343-F7F67F00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33F45-31C9-4D31-8284-306F72B5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90B1-A74B-48F1-B7C0-C72E7B10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56A2-B1E4-4AE8-BDB7-0AFDC5CA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355C-FC61-46BA-8FF4-8B7F6E4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DF31-1E84-4E5E-8478-DB6F597B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1E63-61EC-44C9-A38B-8AD5A60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013D-3888-4C6E-9D5F-5A54C94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A6F3-41F4-46EA-8D4E-278FEFB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418-4ABD-46ED-9086-901BC8F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89BD-2995-4F22-AEA3-AEEC894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0BF4-BFE5-46EC-808B-571004A7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28B0-B88A-418E-8F7A-F161A8F4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74D-3E0A-4060-8995-4DB0765A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4EB-D28A-4926-9E39-F3E4BA4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75A150D-61F4-48CD-A13B-6E6FFA9BC83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AE53C2C-5688-45ED-9116-E37762CD39B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D01612F-6EFA-4B31-9240-7D74B788925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E7990B9-C136-4E07-A61E-936830C41EF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3000"/>
          </a:bodyPr>
          <a:p>
            <a:pPr marL="221040" indent="-22104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 czym należy pamiętać wykonując resuscytację u kobiety ciężar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ależy pamiętać, by jej prawe biodro było uniesione wyżej aniżeli lewe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2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